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556-06F2-4B75-B01E-A3C468B7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2AB-510B-40ED-9EA0-2663A9B2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BAF-5433-41F1-AF32-E0704797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F6E-711A-4547-9024-72D0BA80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5F2-5348-41E0-A07D-4A538D50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234-5FBF-425E-9484-4230142E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21E-9E3A-4768-8CD7-A7197090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F94-6AB3-4499-8D0F-D26E5A82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FD7-2746-426F-B7FA-C2BF2E4D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98B-996B-49B9-89F6-FE5F5EA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747-28A1-4392-A877-C3A0818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B1E-E895-4E04-B6C7-0EAA839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A4A-C4C6-4799-B6FC-63D4FE19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 Reading Key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1-5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lellan vs.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et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t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Ironcl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ancipation / Life of the Soldi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6-5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cipation or Procla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of the Sold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of African-American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experiences of all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Demo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e Turns/End of the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55-5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Gettysbur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ecumseh Sh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/ Impacts of Tota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urrender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24:12Z</dcterms:created>
  <dc:creator>School District U46</dc:creator>
  <dc:description/>
  <dc:language>en-US</dc:language>
  <cp:lastModifiedBy>School District U46</cp:lastModifiedBy>
  <dcterms:modified xsi:type="dcterms:W3CDTF">2009-12-04T15:26:37Z</dcterms:modified>
  <cp:revision>1</cp:revision>
  <dc:subject/>
  <dc:title>Unit 6 Reading Keys Part 2</dc:title>
</cp:coreProperties>
</file>